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4465-D550-425E-933D-1CDE5C56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F0941-6F11-476A-8280-897A08AE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7D78-BEFC-4029-93F6-31658E15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FF28F-95C0-4A92-AA41-4BBEDFA7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38C0-8834-491B-BA3A-EE99CFE8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6CEC-B6EC-4393-A869-519BBFCE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473E-781B-46CA-AF17-8851EB93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5109-3B6D-4F12-8281-B20E8C1C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11DB-CAF1-497C-9979-E7E416A3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E2C4-886D-4834-B824-4175B6D4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00C5-01EE-4224-96FB-B664EA75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CD9B-41EA-4CF7-BFFF-6A88EF8F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3119-9332-4CA9-91F4-620C6353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B9E1-35EC-4F9A-AD79-DBD08D5B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D592-0291-4A2A-99D1-516F48D6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2A41-B430-41B9-990A-1498FAC3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09AE-C974-478D-B82A-6BF14862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75450-225A-4747-BAE6-D0A72344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8ED5-5176-4E1C-B9B8-7E2D4230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E7B4-EE58-4B43-9079-5DE87AF7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D8DB-EDA6-4931-BC96-D1E463BC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A5DB-EE92-411D-912B-B3F21D09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F5C6-3455-43E3-926D-8E87DBCD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3BF0C-E045-45EC-893C-69056736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F742-985C-49ED-9C91-AAC5F9D9C1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F547-B3BB-4013-8566-0ADB7C1AC1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ro/imgres?imgurl=http://teoretic.com/wp-content/uploads/2009/04/chimpanzee_thinking_poster.jpg&amp;imgrefurl=http://teoretic.com/2009/04/20/pastele-masii-doar-o-injuratura-comuna/&amp;usg=__d0nWuCEKorRp_Qd3Jq5U_RFMBoM=&amp;h=383&amp;w=299&amp;sz=18&amp;hl=ro&amp;start=1&amp;zoom=1&amp;um=1&amp;itbs=1&amp;tbnid=FAWNwV6wEUnXPM:&amp;tbnh=123&amp;tbnw=96&amp;prev=/images%3Fq%3Dthinking%26um%3D1%26hl%3Dro%26rlz%3D1R2ADRA_enRO391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iunghiul dreptunghi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Funcţii trigonomet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0"/>
          <p:cNvGrpSpPr/>
          <p:nvPr/>
        </p:nvGrpSpPr>
        <p:grpSpPr>
          <a:xfrm>
            <a:off x="539640" y="1268280"/>
            <a:ext cx="6224760" cy="4921560"/>
            <a:chOff x="539640" y="1268280"/>
            <a:chExt cx="6224760" cy="4921560"/>
          </a:xfrm>
        </p:grpSpPr>
        <p:sp>
          <p:nvSpPr>
            <p:cNvPr id="194" name="AutoShape 10"/>
            <p:cNvSpPr/>
            <p:nvPr/>
          </p:nvSpPr>
          <p:spPr>
            <a:xfrm rot="7493400">
              <a:off x="1946160" y="1864080"/>
              <a:ext cx="2817000" cy="403380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2"/>
            <p:cNvSpPr/>
            <p:nvPr/>
          </p:nvSpPr>
          <p:spPr>
            <a:xfrm>
              <a:off x="5865840" y="357228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2255040" y="1268280"/>
              <a:ext cx="76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4"/>
            <p:cNvSpPr/>
            <p:nvPr/>
          </p:nvSpPr>
          <p:spPr>
            <a:xfrm>
              <a:off x="539640" y="3525840"/>
              <a:ext cx="89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407664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sinus = raportul dintre cateta opusă şi ipotenuz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sinus = raportul dintre cateta alăturată şi ipotenuz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tangentă = raportul dintre cateta opusă şi cateta alăturat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tangentă = raportul dintre cateta alăturată şi cateta opus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al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rea unei lucr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ri în care prezentăm cum aplicăm aceste teoreme la rezolvarea unor probleme din viaţa de zi cu 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Lucrare scris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4797360"/>
            <a:ext cx="1293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 este triunghiul dreptungh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umeste triunghi dreptunghic, triunghiul care are un unghi dr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8"/>
          <p:cNvGrpSpPr/>
          <p:nvPr/>
        </p:nvGrpSpPr>
        <p:grpSpPr>
          <a:xfrm>
            <a:off x="4067280" y="3284640"/>
            <a:ext cx="3817800" cy="2449440"/>
            <a:chOff x="4067280" y="3284640"/>
            <a:chExt cx="3817800" cy="2449440"/>
          </a:xfrm>
        </p:grpSpPr>
        <p:sp>
          <p:nvSpPr>
            <p:cNvPr id="120" name="AutoShape 5"/>
            <p:cNvSpPr/>
            <p:nvPr/>
          </p:nvSpPr>
          <p:spPr>
            <a:xfrm rot="16200000">
              <a:off x="4751280" y="2600280"/>
              <a:ext cx="2449440" cy="381780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7667640" y="5516640"/>
              <a:ext cx="217440" cy="217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m se numesc laturile triunghiului dreptungh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2920" y="3429000"/>
            <a:ext cx="40388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, AC – ca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- ipotenu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7"/>
          <p:cNvGrpSpPr/>
          <p:nvPr/>
        </p:nvGrpSpPr>
        <p:grpSpPr>
          <a:xfrm>
            <a:off x="748080" y="1989000"/>
            <a:ext cx="3925440" cy="4126680"/>
            <a:chOff x="748080" y="1989000"/>
            <a:chExt cx="3925440" cy="4126680"/>
          </a:xfrm>
        </p:grpSpPr>
        <p:grpSp>
          <p:nvGrpSpPr>
            <p:cNvPr id="125" name="Group 15"/>
            <p:cNvGrpSpPr/>
            <p:nvPr/>
          </p:nvGrpSpPr>
          <p:grpSpPr>
            <a:xfrm>
              <a:off x="748080" y="1989000"/>
              <a:ext cx="3925440" cy="4126680"/>
              <a:chOff x="748080" y="1989000"/>
              <a:chExt cx="3925440" cy="4126680"/>
            </a:xfrm>
          </p:grpSpPr>
          <p:sp>
            <p:nvSpPr>
              <p:cNvPr id="126" name="AutoShape 8"/>
              <p:cNvSpPr/>
              <p:nvPr/>
            </p:nvSpPr>
            <p:spPr>
              <a:xfrm rot="3084000">
                <a:off x="1815480" y="2649240"/>
                <a:ext cx="2198520" cy="2745000"/>
              </a:xfrm>
              <a:prstGeom prst="rtTriangl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9"/>
              <p:cNvSpPr/>
              <p:nvPr/>
            </p:nvSpPr>
            <p:spPr>
              <a:xfrm>
                <a:off x="3270240" y="1989000"/>
                <a:ext cx="36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10"/>
              <p:cNvSpPr/>
              <p:nvPr/>
            </p:nvSpPr>
            <p:spPr>
              <a:xfrm rot="21458400">
                <a:off x="755280" y="3722040"/>
                <a:ext cx="3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1"/>
              <p:cNvSpPr/>
              <p:nvPr/>
            </p:nvSpPr>
            <p:spPr>
              <a:xfrm rot="21475200">
                <a:off x="2441520" y="574020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Rectangle 16"/>
            <p:cNvSpPr/>
            <p:nvPr/>
          </p:nvSpPr>
          <p:spPr>
            <a:xfrm rot="2952600">
              <a:off x="1208160" y="3912120"/>
              <a:ext cx="192240" cy="235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3480" y="54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 proprietate au unghiurile ascutite ale unui triunghi dreptunghi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5545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ghiurile ascutite ale unui triunghi dreptunghic sunt complemen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(&lt;B) + m(&lt;C)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4"/>
          <p:cNvGrpSpPr/>
          <p:nvPr/>
        </p:nvGrpSpPr>
        <p:grpSpPr>
          <a:xfrm>
            <a:off x="4676760" y="2952360"/>
            <a:ext cx="3515400" cy="2950920"/>
            <a:chOff x="4676760" y="2952360"/>
            <a:chExt cx="3515400" cy="2950920"/>
          </a:xfrm>
        </p:grpSpPr>
        <p:sp>
          <p:nvSpPr>
            <p:cNvPr id="134" name="AutoShape 9"/>
            <p:cNvSpPr/>
            <p:nvPr/>
          </p:nvSpPr>
          <p:spPr>
            <a:xfrm rot="16225800">
              <a:off x="5354280" y="3075480"/>
              <a:ext cx="2198880" cy="27446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 rot="21322200">
              <a:off x="4690800" y="536364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 rot="21473400">
              <a:off x="7713720" y="552636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2"/>
            <p:cNvSpPr/>
            <p:nvPr/>
          </p:nvSpPr>
          <p:spPr>
            <a:xfrm rot="21473400">
              <a:off x="7661880" y="2959560"/>
              <a:ext cx="4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 rot="16094400">
              <a:off x="7614360" y="5338800"/>
              <a:ext cx="192240" cy="235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912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m se calculeaza aria si perimetrul unui triunghi dreptunghic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7"/>
          <p:cNvGrpSpPr/>
          <p:nvPr/>
        </p:nvGrpSpPr>
        <p:grpSpPr>
          <a:xfrm>
            <a:off x="611280" y="1773360"/>
            <a:ext cx="3889080" cy="3783240"/>
            <a:chOff x="611280" y="1773360"/>
            <a:chExt cx="3889080" cy="3783240"/>
          </a:xfrm>
        </p:grpSpPr>
        <p:sp>
          <p:nvSpPr>
            <p:cNvPr id="141" name="AutoShape 10"/>
            <p:cNvSpPr/>
            <p:nvPr/>
          </p:nvSpPr>
          <p:spPr>
            <a:xfrm>
              <a:off x="1261440" y="2057760"/>
              <a:ext cx="2374560" cy="322668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2"/>
            <p:cNvSpPr/>
            <p:nvPr/>
          </p:nvSpPr>
          <p:spPr>
            <a:xfrm>
              <a:off x="611280" y="1773360"/>
              <a:ext cx="7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3"/>
            <p:cNvSpPr/>
            <p:nvPr/>
          </p:nvSpPr>
          <p:spPr>
            <a:xfrm>
              <a:off x="611280" y="518832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4"/>
            <p:cNvSpPr/>
            <p:nvPr/>
          </p:nvSpPr>
          <p:spPr>
            <a:xfrm>
              <a:off x="3745440" y="5094360"/>
              <a:ext cx="7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5"/>
            <p:cNvSpPr/>
            <p:nvPr/>
          </p:nvSpPr>
          <p:spPr>
            <a:xfrm>
              <a:off x="2988000" y="3956760"/>
              <a:ext cx="7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6"/>
            <p:cNvSpPr/>
            <p:nvPr/>
          </p:nvSpPr>
          <p:spPr>
            <a:xfrm flipV="1">
              <a:off x="1261440" y="4240440"/>
              <a:ext cx="1619640" cy="10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8"/>
          <p:cNvSpPr/>
          <p:nvPr/>
        </p:nvSpPr>
        <p:spPr>
          <a:xfrm>
            <a:off x="5072040" y="48578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5143680" y="1857240"/>
                <a:ext cx="2104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3"/>
              <p:cNvSpPr txBox="1"/>
              <p:nvPr/>
            </p:nvSpPr>
            <p:spPr>
              <a:xfrm>
                <a:off x="5072040" y="3286080"/>
                <a:ext cx="2104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atea medianei corespunzatoare ipotenuz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1320" y="2142720"/>
            <a:ext cx="7900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tr-un triunghi dreptunghic, lungimea medianei corespunzătoare ipotenuzei este egală cu jumătate din lungimea ipotenuz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3"/>
          <p:cNvGrpSpPr/>
          <p:nvPr/>
        </p:nvGrpSpPr>
        <p:grpSpPr>
          <a:xfrm>
            <a:off x="2421000" y="3071880"/>
            <a:ext cx="5718240" cy="2936880"/>
            <a:chOff x="2421000" y="3071880"/>
            <a:chExt cx="5718240" cy="2936880"/>
          </a:xfrm>
        </p:grpSpPr>
        <p:sp>
          <p:nvSpPr>
            <p:cNvPr id="156" name="AutoShape 9"/>
            <p:cNvSpPr/>
            <p:nvPr/>
          </p:nvSpPr>
          <p:spPr>
            <a:xfrm rot="16352400">
              <a:off x="4282200" y="2258640"/>
              <a:ext cx="2198520" cy="44960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 rot="21448800">
              <a:off x="2428560" y="5363640"/>
              <a:ext cx="59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7367040" y="5640480"/>
              <a:ext cx="7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7437240" y="307188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 rot="16221000">
              <a:off x="7419960" y="5565240"/>
              <a:ext cx="156960" cy="1404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Conector drept 10"/>
          <p:cNvSpPr/>
          <p:nvPr/>
        </p:nvSpPr>
        <p:spPr>
          <a:xfrm flipH="1" flipV="1">
            <a:off x="5428800" y="4500360"/>
            <a:ext cx="2143080" cy="12142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setăText 20"/>
          <p:cNvSpPr/>
          <p:nvPr/>
        </p:nvSpPr>
        <p:spPr>
          <a:xfrm>
            <a:off x="5000760" y="4214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000080" y="4000680"/>
                <a:ext cx="16858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ircl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înălţim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640" y="119700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înălţimea dusă din vârful unghiului drept este medie proporţională între segmentele determinate de ea pe ipotenuz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24000" y="3715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BD ∙  D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7"/>
          <p:cNvGrpSpPr/>
          <p:nvPr/>
        </p:nvGrpSpPr>
        <p:grpSpPr>
          <a:xfrm>
            <a:off x="900000" y="2565360"/>
            <a:ext cx="4041000" cy="3741840"/>
            <a:chOff x="900000" y="2565360"/>
            <a:chExt cx="4041000" cy="3741840"/>
          </a:xfrm>
        </p:grpSpPr>
        <p:sp>
          <p:nvSpPr>
            <p:cNvPr id="168" name="AutoShape 10"/>
            <p:cNvSpPr/>
            <p:nvPr/>
          </p:nvSpPr>
          <p:spPr>
            <a:xfrm>
              <a:off x="1575720" y="2846160"/>
              <a:ext cx="2467440" cy="31874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900000" y="2565360"/>
              <a:ext cx="7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900000" y="593892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4156560" y="584604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369960" y="472212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 flipV="1">
              <a:off x="1575720" y="5002560"/>
              <a:ext cx="1683000" cy="10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catet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o catetă este medie proporţională între segmentele ipotenuză şi proiecţia ei pe ipotenuz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66920" y="4436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7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BD ∙ 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CD ∙ 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7"/>
          <p:cNvGrpSpPr/>
          <p:nvPr/>
        </p:nvGrpSpPr>
        <p:grpSpPr>
          <a:xfrm>
            <a:off x="900000" y="2565360"/>
            <a:ext cx="4041000" cy="3741840"/>
            <a:chOff x="900000" y="2565360"/>
            <a:chExt cx="4041000" cy="3741840"/>
          </a:xfrm>
        </p:grpSpPr>
        <p:sp>
          <p:nvSpPr>
            <p:cNvPr id="178" name="AutoShape 10"/>
            <p:cNvSpPr/>
            <p:nvPr/>
          </p:nvSpPr>
          <p:spPr>
            <a:xfrm>
              <a:off x="1575720" y="2846160"/>
              <a:ext cx="2467440" cy="31874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2"/>
            <p:cNvSpPr/>
            <p:nvPr/>
          </p:nvSpPr>
          <p:spPr>
            <a:xfrm>
              <a:off x="900000" y="2565360"/>
              <a:ext cx="7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900000" y="593892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4"/>
            <p:cNvSpPr/>
            <p:nvPr/>
          </p:nvSpPr>
          <p:spPr>
            <a:xfrm>
              <a:off x="4156560" y="584604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5"/>
            <p:cNvSpPr/>
            <p:nvPr/>
          </p:nvSpPr>
          <p:spPr>
            <a:xfrm>
              <a:off x="3369960" y="472212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6"/>
            <p:cNvSpPr/>
            <p:nvPr/>
          </p:nvSpPr>
          <p:spPr>
            <a:xfrm flipV="1">
              <a:off x="1575720" y="5002560"/>
              <a:ext cx="1683000" cy="10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lui Pitag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5280" y="1268280"/>
            <a:ext cx="8353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suma lungimilor pătratelor catetelor este egală cu pătratul ipotenuz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347640" y="3715920"/>
            <a:ext cx="4969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+ A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= B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4"/>
          <p:cNvGrpSpPr/>
          <p:nvPr/>
        </p:nvGrpSpPr>
        <p:grpSpPr>
          <a:xfrm>
            <a:off x="539640" y="2565360"/>
            <a:ext cx="4041720" cy="3742200"/>
            <a:chOff x="539640" y="2565360"/>
            <a:chExt cx="4041720" cy="3742200"/>
          </a:xfrm>
        </p:grpSpPr>
        <p:sp>
          <p:nvSpPr>
            <p:cNvPr id="188" name="AutoShape 10"/>
            <p:cNvSpPr/>
            <p:nvPr/>
          </p:nvSpPr>
          <p:spPr>
            <a:xfrm>
              <a:off x="1215360" y="2846160"/>
              <a:ext cx="2467800" cy="318816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2"/>
            <p:cNvSpPr/>
            <p:nvPr/>
          </p:nvSpPr>
          <p:spPr>
            <a:xfrm>
              <a:off x="539640" y="2565360"/>
              <a:ext cx="78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539640" y="593928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3796920" y="584640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8:24:54Z</dcterms:created>
  <dc:creator>Bugs Bunny</dc:creator>
  <dc:description/>
  <dc:language>en-US</dc:language>
  <cp:lastModifiedBy>Cursant17</cp:lastModifiedBy>
  <dcterms:modified xsi:type="dcterms:W3CDTF">2010-08-25T09:12:17Z</dcterms:modified>
  <cp:revision>24</cp:revision>
  <dc:subject/>
  <dc:title>Triunghiul dreptunghic</dc:title>
</cp:coreProperties>
</file>